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8455715"/>
        <c:axId val="13387987"/>
      </c:barChart>
      <c:catAx>
        <c:axId val="8845571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3387987"/>
        <c:crosses val="autoZero"/>
        <c:auto val="1"/>
        <c:lblAlgn val="ctr"/>
        <c:lblOffset val="100"/>
        <c:noMultiLvlLbl val="0"/>
      </c:catAx>
      <c:valAx>
        <c:axId val="1338798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845571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6982E-5C49-45E9-9892-D324B95BA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530B6-42EB-45B5-A803-953BAF3EB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31C00-A6A1-4028-B3F8-4F04E3D57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F6281-0DCC-469E-97CE-71EF9AF32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1F9B9-6D1A-446C-8F9F-6B73EE34F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35918-08B5-4B6A-B120-BE3C7E0A6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20DB6-66B8-47E0-BE01-BFACF917C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BD9A3-B1BB-4AFB-9136-B0E8D0125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017BD-1993-4B06-B919-7976A2D8B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1A7AA-15E7-43EF-A77F-D9484E2C8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D04FF-CB0F-4AC4-811B-76867764A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917A-5606-4483-ACBD-D55F2A7E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84C4B-A867-40A6-9021-65A0E2BC1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0442C-ABCC-4D0D-807A-9413C4AAF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942B2-DE9B-427D-9284-CF0D78A8A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2A813-7651-47E1-848A-E3772EFCD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784CA-ADCF-423B-8A49-FA1E24013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0C0F-BF3D-4374-A8FB-874FC5D8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68E0-38CE-4BE7-BEFD-4D6449F0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6A67-048D-44F7-8E87-D10FA8B1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7893-99D0-4AA6-9767-FA6BFF0BE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BCB8-C5FC-446D-BB72-DE55A0F9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486D-9CB9-46E0-8798-E0B0EB59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2318-77E0-42C1-A390-141F54349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13221-2369-45B0-B8DD-FBD691277BD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3A6E3-D390-45C5-AA59-06161DD6B62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