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5104888"/>
        <c:axId val="1884491"/>
      </c:barChart>
      <c:catAx>
        <c:axId val="15104888"/>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884491"/>
        <c:crosses val="autoZero"/>
        <c:auto val="1"/>
        <c:lblAlgn val="ctr"/>
        <c:lblOffset val="100"/>
        <c:noMultiLvlLbl val="0"/>
      </c:catAx>
      <c:valAx>
        <c:axId val="188449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5104888"/>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B6FB5-E4BF-4A5A-8E81-D2B950886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E3917-70B0-4B10-A352-FC60176C9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B274B-CCFB-4755-B170-9771CF254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B08C2-FDAC-4D9E-BDD3-1C6220628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2FA19-6467-4E5E-BC94-0B1C5C57F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CE8D3-C4D0-4D83-845E-8C2B1BAE0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ED1A7-F896-4409-A227-F78912146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261F0-627B-449A-B2DC-3307D9E04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08579-D36C-4DC7-9F3F-A07CFB500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557F4-65CE-4E14-9CE0-CA12FAF8C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EA269-41BA-4687-AB44-192170CBC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D8A40-3A6D-48C7-BD8E-0E2366328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AEBCB-E012-445C-A6E5-454316A8E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7C5CE-8DC9-413C-AA34-BFDE9762B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2EF3B-44E9-4158-A1E1-75AB9EF5D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FF7C4-6A9F-439E-A63F-F9BAB6BBD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D210F-24EE-429F-A5C2-412766292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80212-12BF-45FD-A673-F2BFA8C81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040B6-7F83-4D89-B7CA-C507FCD24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F6B4F-383F-40CD-84D1-CB79DCA66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1C114-9652-4541-A6FD-FB9C57A2F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31D32-6174-417A-B9CD-F56DC02F7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E2DF3-C732-4D05-8D63-D9D02B432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5955A-5091-4066-A763-5DD8EAB43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CC4747-8398-475A-B6FC-8CA90B2A792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D31C5B-E51F-41DD-AE1C-5762937200F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